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6F0-4951-4231-821F-3D75F19D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86B-344E-46F2-B8E5-21FE1A8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47A-66FF-4647-A981-B9110D9A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653-7939-496A-A3FE-3963E26C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3FB-B69A-4462-929F-D32629C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E51-75AA-465A-8D91-5C16BA32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804-0015-42EC-A96E-4A29082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4B8-4A8F-4D42-9985-6077FC29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6FD-9CB4-49BE-BC05-DA88F83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B4F-44E6-434F-AB49-0A6099F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4D1-71BC-4908-9A0F-892932F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185-544B-4D46-AD0C-3420405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29EB-5248-4CDE-9E5F-8A145C7D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2.unil.ch/cbg/index.php?title=Linkages_studies&amp;action=edit&amp;redlink=1" TargetMode="External"/><Relationship Id="rId2" Type="http://schemas.openxmlformats.org/officeDocument/2006/relationships/hyperlink" Target="http://www2.unil.ch/cbg/index.php?title=Genome_Wide_Association_Studies" TargetMode="External"/><Relationship Id="rId3" Type="http://schemas.openxmlformats.org/officeDocument/2006/relationships/hyperlink" Target="http://www2.unil.ch/cbg/index.php?title=Expression_studies" TargetMode="External"/><Relationship Id="rId4" Type="http://schemas.openxmlformats.org/officeDocument/2006/relationships/hyperlink" Target="http://www2.unil.ch/cbg/index.php?title=Integrative_analysis&amp;action=edit&amp;redlink=1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9051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NIL MSc cours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"Genes: from sequence to function 2009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048120"/>
            <a:ext cx="6095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en Bergmann (S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o Rivolta (C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ann Weber (J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hrast (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goal: Introduction to h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owledge on genes affecting phenoty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mmonly gener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wo comm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tic screening appro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identifying genetic variants causally related to a particular phenoty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ages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 family pedigrees in order to identify genetic regions that segregate in family members affected by a particular tra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ome Wide Association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 profiles of many genetic variants for individuals in a large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pression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uses high-throughput data, but here the observables are at the level of the transcri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methods may individually lead to candidate genes, b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egrativ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vast amounts of data may refine them and teach you about systems properties of the regulatory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Prioritization that makes use of the exiting knowledge accumulated on public repositories is always useful, before embarking on focused Functional stu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8458200" y="1371600"/>
            <a:ext cx="533520" cy="4572000"/>
          </a:xfrm>
          <a:prstGeom prst="upArrow">
            <a:avLst>
              <a:gd name="adj1" fmla="val 21435"/>
              <a:gd name="adj2" fmla="val 210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theory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/09 10:00-12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e Wide Association Studies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/09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 studies 1 (J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/09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 studies 2 (J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databases and tools 1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databases and tools 2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ve Analysis 1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ve Analysis 2 (S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studies: exercises 3 (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/10 13:00-15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studies 1 (R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/10 15:00-17: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studies 2 (RC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Cours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er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en.Bergmann@unil.ch (021-692545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o.Rivolta@unil.ch (021-69254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formation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2.unil.ch/cb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a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ue: Biophore BIO/2917b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nless arranged 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360" y="258840"/>
            <a:ext cx="83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wiki under http://www2.unil.ch/c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43:20Z</dcterms:created>
  <dc:creator>Sven Bergmann</dc:creator>
  <dc:description/>
  <dc:language>en-US</dc:language>
  <cp:lastModifiedBy>sbergman</cp:lastModifiedBy>
  <dcterms:modified xsi:type="dcterms:W3CDTF">2009-09-16T12:23:59Z</dcterms:modified>
  <cp:revision>12</cp:revision>
  <dc:subject/>
  <dc:title>Course Module:  Brief Introduction to  Systems Biology   Sven Bergmann Department of Medical Genetics University of Lausanne Rue de Bugnon 27 - DGM 328  CH-1005 Lausanne  Switzerland   work: ++41-21-692-5452 cell: ++41-78-663-4980  http://serverdgm.unil.ch/bergmann </dc:title>
</cp:coreProperties>
</file>